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C9D-7A40-4DCB-87C8-56068259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145-01EB-420D-8B52-A01A044C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524-5A75-4425-A781-F7D95440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CC1-0B6F-41F0-B150-4F9680CB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D87-F1EA-4140-B395-8197F390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BAB-CF42-4E76-BB22-3791A49E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19C-2924-4A7A-9136-CCD468D2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9D2-49E7-4F81-8CC4-EF368FA3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E77-443D-4167-BF98-788F90BB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C2E-F6A4-4D59-AA58-A25BA09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30A-0CC3-4008-8664-A49E79CF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FE4-1DB3-4F6C-9E99-F0561BE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C6F9-A550-4D94-A26E-FB63BB87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280" y="349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280" y="10429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280" y="20509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280" y="30607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280" y="406872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280" y="514836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280" y="615636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280" y="716436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280" y="8172360"/>
            <a:ext cx="671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60360" y="144360"/>
            <a:ext cx="6021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33360" y="90000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3360" y="2700360"/>
            <a:ext cx="2016000" cy="792000"/>
          </a:xfrm>
          <a:prstGeom prst="rightArrow">
            <a:avLst>
              <a:gd name="adj1" fmla="val 50000"/>
              <a:gd name="adj2" fmla="val 636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3360" y="212400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360" y="1403280"/>
            <a:ext cx="2016000" cy="792360"/>
          </a:xfrm>
          <a:prstGeom prst="rightArrow">
            <a:avLst>
              <a:gd name="adj1" fmla="val 50000"/>
              <a:gd name="adj2" fmla="val 636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3360" y="826920"/>
            <a:ext cx="3095640" cy="648000"/>
          </a:xfrm>
          <a:prstGeom prst="rightArrow">
            <a:avLst>
              <a:gd name="adj1" fmla="val 50000"/>
              <a:gd name="adj2" fmla="val 1194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73360" y="262728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3360" y="2050920"/>
            <a:ext cx="3095640" cy="648000"/>
          </a:xfrm>
          <a:prstGeom prst="rightArrow">
            <a:avLst>
              <a:gd name="adj1" fmla="val 50000"/>
              <a:gd name="adj2" fmla="val 1194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73360" y="133020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360" y="341964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7360" y="521964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7360" y="4643280"/>
            <a:ext cx="3095640" cy="648000"/>
          </a:xfrm>
          <a:prstGeom prst="rightArrow">
            <a:avLst>
              <a:gd name="adj1" fmla="val 50000"/>
              <a:gd name="adj2" fmla="val 1194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7360" y="392256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7720" y="334656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7720" y="5146560"/>
            <a:ext cx="2016000" cy="792360"/>
          </a:xfrm>
          <a:prstGeom prst="rightArrow">
            <a:avLst>
              <a:gd name="adj1" fmla="val 50000"/>
              <a:gd name="adj2" fmla="val 636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7720" y="457056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7720" y="3849840"/>
            <a:ext cx="2016000" cy="792000"/>
          </a:xfrm>
          <a:prstGeom prst="rightArrow">
            <a:avLst>
              <a:gd name="adj1" fmla="val 50000"/>
              <a:gd name="adj2" fmla="val 636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0280" y="601200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781200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0280" y="723600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0280" y="6515280"/>
            <a:ext cx="2016360" cy="792000"/>
          </a:xfrm>
          <a:prstGeom prst="rightArrow">
            <a:avLst>
              <a:gd name="adj1" fmla="val 50000"/>
              <a:gd name="adj2" fmla="val 6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0280" y="593892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0280" y="7738920"/>
            <a:ext cx="2016360" cy="792360"/>
          </a:xfrm>
          <a:prstGeom prst="rightArrow">
            <a:avLst>
              <a:gd name="adj1" fmla="val 50000"/>
              <a:gd name="adj2" fmla="val 636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716292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0280" y="6442200"/>
            <a:ext cx="2016360" cy="792000"/>
          </a:xfrm>
          <a:prstGeom prst="rightArrow">
            <a:avLst>
              <a:gd name="adj1" fmla="val 50000"/>
              <a:gd name="adj2" fmla="val 63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0640" y="8604360"/>
            <a:ext cx="6021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2 3 4 5 6 7 8 9 10 11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89000" y="3780000"/>
            <a:ext cx="1368360" cy="1512720"/>
            <a:chOff x="189000" y="3780000"/>
            <a:chExt cx="1368360" cy="1512720"/>
          </a:xfrm>
        </p:grpSpPr>
        <p:sp>
          <p:nvSpPr>
            <p:cNvPr id="77" name=""/>
            <p:cNvSpPr/>
            <p:nvPr/>
          </p:nvSpPr>
          <p:spPr>
            <a:xfrm>
              <a:off x="189000" y="378000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114516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359360" y="47764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1128600" y="39092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326600" y="40935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56808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37320" y="47394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44180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846360" y="51080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2212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37320" y="409356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68080" y="38905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798840" y="38167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27040" y="658800"/>
            <a:ext cx="580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BUJA LAS MANECILLAS PARA QUE EL RELOJ  MARQUE LAS HORAS COR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1240" y="17316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mbre: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9000" y="1187280"/>
            <a:ext cx="1368360" cy="1513080"/>
            <a:chOff x="189000" y="1187280"/>
            <a:chExt cx="1368360" cy="1513080"/>
          </a:xfrm>
        </p:grpSpPr>
        <p:sp>
          <p:nvSpPr>
            <p:cNvPr id="93" name=""/>
            <p:cNvSpPr/>
            <p:nvPr/>
          </p:nvSpPr>
          <p:spPr>
            <a:xfrm>
              <a:off x="189000" y="1187280"/>
              <a:ext cx="1368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14516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359360" y="218376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128600" y="13165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326600" y="150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56808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37320" y="2146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44180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846360" y="2515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2212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37320" y="15008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568080" y="12978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798840" y="12240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773360" y="3780000"/>
            <a:ext cx="1368360" cy="1512720"/>
            <a:chOff x="1773360" y="3780000"/>
            <a:chExt cx="1368360" cy="1512720"/>
          </a:xfrm>
        </p:grpSpPr>
        <p:sp>
          <p:nvSpPr>
            <p:cNvPr id="107" name=""/>
            <p:cNvSpPr/>
            <p:nvPr/>
          </p:nvSpPr>
          <p:spPr>
            <a:xfrm>
              <a:off x="1773360" y="378000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72952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943720" y="47764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712960" y="39092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910960" y="40935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15244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921680" y="47394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02616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2430720" y="51080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180648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921680" y="409356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152440" y="38905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383200" y="38167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44640" y="1187280"/>
            <a:ext cx="1368360" cy="1513080"/>
            <a:chOff x="1844640" y="1187280"/>
            <a:chExt cx="1368360" cy="1513080"/>
          </a:xfrm>
        </p:grpSpPr>
        <p:sp>
          <p:nvSpPr>
            <p:cNvPr id="121" name=""/>
            <p:cNvSpPr/>
            <p:nvPr/>
          </p:nvSpPr>
          <p:spPr>
            <a:xfrm>
              <a:off x="1844640" y="1187280"/>
              <a:ext cx="1368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80080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015000" y="218376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784240" y="13165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982240" y="150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22372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992960" y="2146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09744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2502000" y="2515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187776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992960" y="15008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223720" y="12978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454480" y="12240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573360" y="3780000"/>
            <a:ext cx="1368360" cy="1512720"/>
            <a:chOff x="3573360" y="3780000"/>
            <a:chExt cx="1368360" cy="1512720"/>
          </a:xfrm>
        </p:grpSpPr>
        <p:sp>
          <p:nvSpPr>
            <p:cNvPr id="135" name=""/>
            <p:cNvSpPr/>
            <p:nvPr/>
          </p:nvSpPr>
          <p:spPr>
            <a:xfrm>
              <a:off x="3573360" y="378000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52952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743720" y="47764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4512960" y="39092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710960" y="40935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95244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721680" y="47394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82616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230720" y="51080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60648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721680" y="409356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952440" y="38905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4183200" y="38167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573360" y="1187280"/>
            <a:ext cx="1368360" cy="1513080"/>
            <a:chOff x="3573360" y="1187280"/>
            <a:chExt cx="1368360" cy="1513080"/>
          </a:xfrm>
        </p:grpSpPr>
        <p:sp>
          <p:nvSpPr>
            <p:cNvPr id="149" name=""/>
            <p:cNvSpPr/>
            <p:nvPr/>
          </p:nvSpPr>
          <p:spPr>
            <a:xfrm>
              <a:off x="3573360" y="1187280"/>
              <a:ext cx="1368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52952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743720" y="218376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512960" y="13165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710960" y="150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5244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721680" y="2146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82616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230720" y="2515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60648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721680" y="15008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952440" y="12978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183200" y="12240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29360" y="3780000"/>
            <a:ext cx="1368360" cy="1512720"/>
            <a:chOff x="5229360" y="3780000"/>
            <a:chExt cx="1368360" cy="1512720"/>
          </a:xfrm>
        </p:grpSpPr>
        <p:sp>
          <p:nvSpPr>
            <p:cNvPr id="163" name=""/>
            <p:cNvSpPr/>
            <p:nvPr/>
          </p:nvSpPr>
          <p:spPr>
            <a:xfrm>
              <a:off x="5229360" y="378000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618552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6399720" y="47764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168960" y="39092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366960" y="40935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608440" y="49791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377680" y="47394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48216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5886720" y="510804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262480" y="44532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377680" y="409356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608440" y="38905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839200" y="381672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29360" y="1187280"/>
            <a:ext cx="1368360" cy="1513080"/>
            <a:chOff x="5229360" y="1187280"/>
            <a:chExt cx="1368360" cy="1513080"/>
          </a:xfrm>
        </p:grpSpPr>
        <p:sp>
          <p:nvSpPr>
            <p:cNvPr id="177" name=""/>
            <p:cNvSpPr/>
            <p:nvPr/>
          </p:nvSpPr>
          <p:spPr>
            <a:xfrm>
              <a:off x="5229360" y="1187280"/>
              <a:ext cx="1368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18552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399720" y="218376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168960" y="13165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366960" y="150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608440" y="238680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5377680" y="2146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48216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886720" y="251568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5262480" y="186084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5377680" y="15008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608440" y="12978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5839200" y="122400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9000" y="6732720"/>
            <a:ext cx="1368360" cy="1512720"/>
            <a:chOff x="189000" y="6732720"/>
            <a:chExt cx="1368360" cy="1512720"/>
          </a:xfrm>
        </p:grpSpPr>
        <p:sp>
          <p:nvSpPr>
            <p:cNvPr id="191" name=""/>
            <p:cNvSpPr/>
            <p:nvPr/>
          </p:nvSpPr>
          <p:spPr>
            <a:xfrm>
              <a:off x="189000" y="673272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114516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359360" y="772920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128600" y="68619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326600" y="70462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56808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37320" y="76921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144180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846360" y="80607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2212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337320" y="704628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68080" y="68432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98840" y="67694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773360" y="6732720"/>
            <a:ext cx="1368360" cy="1512720"/>
            <a:chOff x="1773360" y="6732720"/>
            <a:chExt cx="1368360" cy="1512720"/>
          </a:xfrm>
        </p:grpSpPr>
        <p:sp>
          <p:nvSpPr>
            <p:cNvPr id="205" name=""/>
            <p:cNvSpPr/>
            <p:nvPr/>
          </p:nvSpPr>
          <p:spPr>
            <a:xfrm>
              <a:off x="1773360" y="673272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2952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2943720" y="772920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12960" y="68619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2910960" y="70462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15244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21680" y="76921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302616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2430720" y="80607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180648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1921680" y="704628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2152440" y="68432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2383200" y="67694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573360" y="6732720"/>
            <a:ext cx="1368360" cy="1512720"/>
            <a:chOff x="3573360" y="6732720"/>
            <a:chExt cx="1368360" cy="1512720"/>
          </a:xfrm>
        </p:grpSpPr>
        <p:sp>
          <p:nvSpPr>
            <p:cNvPr id="219" name=""/>
            <p:cNvSpPr/>
            <p:nvPr/>
          </p:nvSpPr>
          <p:spPr>
            <a:xfrm>
              <a:off x="3573360" y="673272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52952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4743720" y="772920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4512960" y="68619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710960" y="70462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395244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721680" y="76921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482616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230720" y="80607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60648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721680" y="704628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3952440" y="68432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4183200" y="67694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229360" y="6732720"/>
            <a:ext cx="1368360" cy="1512720"/>
            <a:chOff x="5229360" y="6732720"/>
            <a:chExt cx="1368360" cy="1512720"/>
          </a:xfrm>
        </p:grpSpPr>
        <p:sp>
          <p:nvSpPr>
            <p:cNvPr id="233" name=""/>
            <p:cNvSpPr/>
            <p:nvPr/>
          </p:nvSpPr>
          <p:spPr>
            <a:xfrm>
              <a:off x="5229360" y="6732720"/>
              <a:ext cx="136836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618552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399720" y="772920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168960" y="68619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366960" y="70462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5608440" y="793188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5377680" y="76921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48216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5886720" y="8060760"/>
              <a:ext cx="69480" cy="16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5262480" y="7405920"/>
              <a:ext cx="6948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5377680" y="704628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5608440" y="68432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839200" y="6769440"/>
              <a:ext cx="15264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33360" y="2916360"/>
            <a:ext cx="1079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60640" y="2916360"/>
            <a:ext cx="107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18080" y="2916360"/>
            <a:ext cx="107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02080" y="2916360"/>
            <a:ext cx="1079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9000" y="5724360"/>
            <a:ext cx="1079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16280" y="5724360"/>
            <a:ext cx="1079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73360" y="5724360"/>
            <a:ext cx="1079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57720" y="5724360"/>
            <a:ext cx="1079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360" y="8461440"/>
            <a:ext cx="1079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60640" y="8461440"/>
            <a:ext cx="107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18080" y="8461440"/>
            <a:ext cx="107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02080" y="8461440"/>
            <a:ext cx="1079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5760" y="539640"/>
            <a:ext cx="580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BUJA LAS MANECILLAS PARA QUE EL RELOJ  MARQUE LAS HORAS CORRE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552840" y="1476360"/>
            <a:ext cx="2828880" cy="2774880"/>
            <a:chOff x="3552840" y="1476360"/>
            <a:chExt cx="2828880" cy="2774880"/>
          </a:xfrm>
        </p:grpSpPr>
        <p:sp>
          <p:nvSpPr>
            <p:cNvPr id="260" name=""/>
            <p:cNvSpPr/>
            <p:nvPr/>
          </p:nvSpPr>
          <p:spPr>
            <a:xfrm>
              <a:off x="3552840" y="1476360"/>
              <a:ext cx="2828880" cy="27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5529600" y="36759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972400" y="33037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495040" y="17132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5904720" y="20512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336560" y="36759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859200" y="32360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6142680" y="27115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4912200" y="39124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621240" y="27115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859200" y="205128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336560" y="16790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813560" y="15440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08640" y="4356000"/>
            <a:ext cx="9349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1240" y="17316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mbre: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12840" y="1476360"/>
            <a:ext cx="2828880" cy="2774880"/>
            <a:chOff x="312840" y="1476360"/>
            <a:chExt cx="2828880" cy="2774880"/>
          </a:xfrm>
        </p:grpSpPr>
        <p:sp>
          <p:nvSpPr>
            <p:cNvPr id="276" name=""/>
            <p:cNvSpPr/>
            <p:nvPr/>
          </p:nvSpPr>
          <p:spPr>
            <a:xfrm>
              <a:off x="312840" y="1476360"/>
              <a:ext cx="2828880" cy="27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2289600" y="36759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732400" y="33037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2255040" y="17132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2664720" y="20512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096560" y="36759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619200" y="32360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902680" y="27115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672200" y="39124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81240" y="27115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619200" y="205128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096560" y="16790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1573560" y="15440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341360" y="4356000"/>
            <a:ext cx="1079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357720" y="5076720"/>
            <a:ext cx="2828880" cy="2774880"/>
            <a:chOff x="3357720" y="5076720"/>
            <a:chExt cx="2828880" cy="2774880"/>
          </a:xfrm>
        </p:grpSpPr>
        <p:sp>
          <p:nvSpPr>
            <p:cNvPr id="291" name=""/>
            <p:cNvSpPr/>
            <p:nvPr/>
          </p:nvSpPr>
          <p:spPr>
            <a:xfrm>
              <a:off x="3357720" y="5076720"/>
              <a:ext cx="2828880" cy="27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334480" y="72763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777280" y="69040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5299920" y="531360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709600" y="56516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4141440" y="72763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3664080" y="683640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5947560" y="63118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4717080" y="751284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426120" y="63118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664080" y="565164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141440" y="527940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618440" y="514440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221000" y="8101080"/>
            <a:ext cx="11001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33360" y="5110200"/>
            <a:ext cx="2828880" cy="2774880"/>
            <a:chOff x="333360" y="5110200"/>
            <a:chExt cx="2828880" cy="2774880"/>
          </a:xfrm>
        </p:grpSpPr>
        <p:sp>
          <p:nvSpPr>
            <p:cNvPr id="306" name=""/>
            <p:cNvSpPr/>
            <p:nvPr/>
          </p:nvSpPr>
          <p:spPr>
            <a:xfrm>
              <a:off x="333360" y="5110200"/>
              <a:ext cx="2828880" cy="27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2310120" y="730980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2752920" y="69375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2275560" y="53470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2685240" y="56851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117080" y="730980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639720" y="686988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2923200" y="63453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692720" y="754632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401760" y="6345360"/>
              <a:ext cx="144000" cy="30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639720" y="568512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17080" y="531288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1594080" y="5177880"/>
              <a:ext cx="315360" cy="33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217520" y="8101080"/>
            <a:ext cx="12747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611280"/>
            <a:ext cx="6857640" cy="6840000"/>
            <a:chOff x="0" y="611280"/>
            <a:chExt cx="6857640" cy="6840000"/>
          </a:xfrm>
        </p:grpSpPr>
        <p:sp>
          <p:nvSpPr>
            <p:cNvPr id="321" name=""/>
            <p:cNvSpPr/>
            <p:nvPr/>
          </p:nvSpPr>
          <p:spPr>
            <a:xfrm>
              <a:off x="0" y="611280"/>
              <a:ext cx="6857640" cy="68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4791960" y="6033600"/>
              <a:ext cx="34956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5865120" y="5116320"/>
              <a:ext cx="34920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4708800" y="1195560"/>
              <a:ext cx="34920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701320" y="2028960"/>
              <a:ext cx="34956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899720" y="6033600"/>
              <a:ext cx="34920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743400" y="4948560"/>
              <a:ext cx="349200" cy="75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6278760" y="3655800"/>
              <a:ext cx="349200" cy="75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95080" y="6616440"/>
              <a:ext cx="349200" cy="74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65960" y="3655800"/>
              <a:ext cx="349200" cy="75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743400" y="2028960"/>
              <a:ext cx="76464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899720" y="1110960"/>
              <a:ext cx="76464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1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3056400" y="778320"/>
              <a:ext cx="76464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2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817720" y="7956720"/>
            <a:ext cx="10796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3:51:38Z</dcterms:created>
  <dc:creator>Usuario</dc:creator>
  <dc:description/>
  <dc:language>en-US</dc:language>
  <cp:lastModifiedBy>Usuario</cp:lastModifiedBy>
  <dcterms:modified xsi:type="dcterms:W3CDTF">2008-05-23T17:01:33Z</dcterms:modified>
  <cp:revision>2</cp:revision>
  <dc:subject/>
  <dc:title>Diapositiva 1</dc:title>
</cp:coreProperties>
</file>